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045-46BA-4020-B70D-D0A56407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471F-7E13-4383-89C8-655C3083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68E6-A9DB-47EB-866F-BCA90A9C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A33-E12D-4C51-973D-683E3D4D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3499-B72E-4262-946F-8F0C5642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3492-7788-42F4-80AC-888D9493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8F7E-9B9B-4A23-A086-ABE4B3B7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D779-7699-418A-91D4-A13EFFAF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E5DC-2704-4AFA-A565-0B100D92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0A07-B84E-4FCA-800D-D0643668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2618-DFF9-4B27-921A-6FD8BA50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6B7-DFD4-4A1F-92FB-74439548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B0D1-6B5D-4CD4-A1F7-9E950FA8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7F90-AA14-4BD8-95F9-C57DEA9A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6563-8160-431C-979E-C9FEEEE6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1D42-0346-4586-9571-BEA71051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0208-4C29-4487-BAA6-ADE90EE6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8AEF-313A-4E77-8538-DF188946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D9E-06E3-4305-A6EB-836AFAE6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D5E-A693-428D-9EE8-204B89B4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10E7-0E41-49AB-810C-8F35DA61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A76-F2FB-4423-8C80-E01132E0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22B-1F02-4748-BAB7-1BFB1106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B8C-31B9-4909-A85A-FB2A6ADD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B45B-8BFB-42D0-8589-7553D474E3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5C0B-7DCB-474A-8DBB-0DE95653BD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tatic.flickr.com/36/93871183_28e3835b7e.jpg&amp;imgrefurl=http://olduvaigeorge.com/2006/02/&amp;usg=__flLVXjRzs9ISDN_sYI8KR4U67Sw=&amp;h=437&amp;w=500&amp;sz=151&amp;hl=en&amp;start=16&amp;um=1&amp;tbnid=if7_sdsY3MNwlM:&amp;tbnh=114&amp;tbnw=130&amp;prev=/images%3Fq%3Dconvergent%2Bevolution%26hl%3Den%26sa%3DN%26um%3D1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io.uwinnipeg.ca/~simmons/16cm05/1116/lyell.jpg&amp;imgrefurl=http://io.uwinnipeg.ca/~simmons/16cm05/1116/16evolut.htm&amp;usg=__oGwYcZsTtOnOJjLhk-TE3j1VcOg=&amp;h=436&amp;w=362&amp;sz=121&amp;hl=en&amp;start=3&amp;um=1&amp;tbnid=QWzUZvOhmbT-HM:&amp;tbnh=126&amp;tbnw=105&amp;prev=/images%3Fq%3DCharles%2BLyell%26hl%3Den%26rls%3DDKUS,DKUS:2006-33,DKUS:en%26sa%3DN%26um%3D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ary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valuating Darwin’s Ideas – 3 major strengt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chanism for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cognition that variation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or to Darwin’s theory, species were classified b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on appearance, and ignored variation whi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as a starting point for evolu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valuating Darwin’s Ideas – Weaknes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ed variation was important to Darwin’s theory, but he did not have a clear idea of how traits were inherited. He did not have an understanding of gene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roughly 100 years between when Darwin published his theory and the structure of DNA was discov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Class 5/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out yesterday’s a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Selection:  How Do Species Change Over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8769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y for tomorrow’s  chapter 16 vocab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udying Evolution at all Sc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80880" y="1600200"/>
                <a:ext cx="7937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croevolution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Speciation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Macroevolutio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3048120" y="2057400"/>
            <a:ext cx="2286000" cy="2242800"/>
            <a:chOff x="3048120" y="2057400"/>
            <a:chExt cx="2286000" cy="2242800"/>
          </a:xfrm>
        </p:grpSpPr>
        <p:sp>
          <p:nvSpPr>
            <p:cNvPr id="136" name=""/>
            <p:cNvSpPr/>
            <p:nvPr/>
          </p:nvSpPr>
          <p:spPr>
            <a:xfrm>
              <a:off x="3048120" y="2743200"/>
              <a:ext cx="2286000" cy="155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formation of new species as a result of ev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1120" y="20574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791320" y="2057400"/>
            <a:ext cx="2286000" cy="2242800"/>
            <a:chOff x="5791320" y="2057400"/>
            <a:chExt cx="2286000" cy="2242800"/>
          </a:xfrm>
        </p:grpSpPr>
        <p:sp>
          <p:nvSpPr>
            <p:cNvPr id="139" name=""/>
            <p:cNvSpPr/>
            <p:nvPr/>
          </p:nvSpPr>
          <p:spPr>
            <a:xfrm>
              <a:off x="5791320" y="2743200"/>
              <a:ext cx="2286000" cy="155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appearance of new species over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34320" y="20574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80880" y="2057400"/>
            <a:ext cx="2286000" cy="4068720"/>
            <a:chOff x="380880" y="2057400"/>
            <a:chExt cx="2286000" cy="4068720"/>
          </a:xfrm>
        </p:grpSpPr>
        <p:grpSp>
          <p:nvGrpSpPr>
            <p:cNvPr id="142" name=""/>
            <p:cNvGrpSpPr/>
            <p:nvPr/>
          </p:nvGrpSpPr>
          <p:grpSpPr>
            <a:xfrm>
              <a:off x="380880" y="2057400"/>
              <a:ext cx="2286000" cy="1877040"/>
              <a:chOff x="380880" y="2057400"/>
              <a:chExt cx="2286000" cy="1877040"/>
            </a:xfrm>
          </p:grpSpPr>
          <p:sp>
            <p:nvSpPr>
              <p:cNvPr id="143" name=""/>
              <p:cNvSpPr/>
              <p:nvPr/>
            </p:nvSpPr>
            <p:spPr>
              <a:xfrm>
                <a:off x="380880" y="2743200"/>
                <a:ext cx="2286000" cy="119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hange in the genes of a popul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523880" y="205740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533520" y="4419720"/>
              <a:ext cx="2133360" cy="170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" descr="The Evolution of Man"/>
          <p:cNvPicPr/>
          <p:nvPr/>
        </p:nvPicPr>
        <p:blipFill>
          <a:blip r:embed="rId2"/>
          <a:srcRect l="0" t="0" r="12324" b="0"/>
          <a:stretch/>
        </p:blipFill>
        <p:spPr>
          <a:xfrm>
            <a:off x="3276720" y="4495680"/>
            <a:ext cx="46339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icroevolution vs. Macroevol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12480" r="0" b="0"/>
          <a:stretch/>
        </p:blipFill>
        <p:spPr>
          <a:xfrm>
            <a:off x="1981080" y="1219320"/>
            <a:ext cx="4600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cesses of Microevolution (5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e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random or through sexual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s and types of alleles can change from generation to generation although it is 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tic Dr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Genetic drift"/>
          <p:cNvPicPr/>
          <p:nvPr/>
        </p:nvPicPr>
        <p:blipFill>
          <a:blip r:embed="rId1"/>
          <a:srcRect l="0" t="13874" r="0" b="0"/>
          <a:stretch/>
        </p:blipFill>
        <p:spPr>
          <a:xfrm>
            <a:off x="3048120" y="4343400"/>
            <a:ext cx="3400200" cy="1419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3520" y="571356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drift affects genetic makeup of the population through an entirely random process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tterns of Macroevolution (6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vergent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volution is strongly directed by the environment, species living in a similar environment should evolve similar adap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es that share an environment can affect each others evolution.  They develop adaptations to co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1523880"/>
            <a:ext cx="2286000" cy="2005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257800" y="3733920"/>
            <a:ext cx="2143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tterns of Macroevolution Con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343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es splint into two or more lines of des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6000" r="0" b="6000"/>
          <a:stretch/>
        </p:blipFill>
        <p:spPr>
          <a:xfrm>
            <a:off x="4876920" y="1447920"/>
            <a:ext cx="3990960" cy="2552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" y="3962520"/>
            <a:ext cx="8686800" cy="28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mall changes occur gradually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ctuated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pecies suddenly appear after some environmental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radualism vs. Punctuated Equilibri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95280" y="1465200"/>
            <a:ext cx="670572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class Question 5/21/0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ere the beaks of the finches that Darwin observed on the Galapagos Islands different on different isla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5627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mework (due Fri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Reading “Developing a Theo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veloping a Theo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process by which species change over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Darwin was responsible for developing the moder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4876920"/>
            <a:ext cx="73915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oad explanation that has been scientif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ed and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391520" y="2362320"/>
            <a:ext cx="121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 Types of Se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7162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rtifici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s can choose what traits are favorable in a species and breed plants and animals to have these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by which individuals that are better adapted to their environment survive and reproduce more successfully than those that are less adapted to do 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1676520" cy="1352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280" y="4648320"/>
            <a:ext cx="17528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 Types of Selection Continu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xual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volutionary process by which a mate is chosen on the basis of a particular t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7400" y="3352680"/>
            <a:ext cx="446256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t’s Who You Know and What They Kno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win came up with the theory of evolution based on his observations and those of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mar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that each organism is usually well adapted to its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lt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798,Malthus observed that human food supply was increasing at a slower pace than the human population and hypothesized that many humans would die off due to disease, war and fam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y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logist that though that processes such as erosion and the formation of fossils was gradual and con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779760" cy="942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642960" cy="843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5257800"/>
            <a:ext cx="7462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volution by Natural Se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win’s theory predicts that over time, the number of individuals that carry advantageous traits will increase in 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1  Over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population is capable of producing more offspring than can possibly surv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2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 exists in every population in the form of inherited tra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3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raits one individual is more likely to survive than another and reprodu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4 Adap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, those traits that improve the survival and reproduction will become more comm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class Question 5/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you think that giraffes evolved to have long necks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lective pressure that caused this change to occ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556272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y for Chapter 16 Vocab Quiz (Friday, 5/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4191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:  Selective pressure is any phenomena which alters the behavior and fitness of living organisms within a given environ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2000" t="0" r="16801" b="0"/>
          <a:stretch/>
        </p:blipFill>
        <p:spPr>
          <a:xfrm>
            <a:off x="7162920" y="3352680"/>
            <a:ext cx="173484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arwin – The Origen of Species by Natural Se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win presents evidence of evolution from multiple fields of science, where some species of animals have common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Fossil Recor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tudy of fossils or traces of living things from the p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iogeograp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tudy of the location of organisms around the worl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mental Biolo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evelopment of organisms from embry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tudy of bodily structure of anima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iochemistr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tudy of biomolecules such as amino acids and D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02:06:26Z</dcterms:created>
  <dc:creator>Dawn Pav</dc:creator>
  <dc:description/>
  <dc:language>en-US</dc:language>
  <cp:lastModifiedBy>udsd</cp:lastModifiedBy>
  <dcterms:modified xsi:type="dcterms:W3CDTF">2009-05-28T12:38:03Z</dcterms:modified>
  <cp:revision>7</cp:revision>
  <dc:subject/>
  <dc:title>Chapter 16</dc:title>
</cp:coreProperties>
</file>